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ED38-1E2E-4983-B7D4-43ABFADFB1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0FEC-FDE1-49B8-9C2E-F029521970E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100F-9F3A-4ADE-897C-2FAAD02C291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A1DD-75B8-446A-8923-217B2ADD521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EAEA-3BAC-4636-AA3F-7223B9853A3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E09E-66E4-44D8-8003-93754BDD5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75C-F411-4B54-ABC5-4AE346BA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FAB4-E128-40CB-8A59-DA0647950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4A80-AE57-4868-B6F2-4AD307CC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03E0-5D73-43A9-8DEB-D88256C4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21A8-9999-4D1F-ABDD-0C87D201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C0C8-A70E-4209-BBCB-8B43B3D6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52A25-B614-42A5-8FC5-4663BB1A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C09A-C1DC-4F63-AB42-40E35424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565C-BEDD-4494-882D-EFC7C646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E2B5-B872-436D-B5BC-77F6AE5E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2FB4-DC8C-4916-92A4-2012FD0A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B7E2-8059-44FE-B802-0591308DD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D261-5F53-4AB6-B745-CCB0CAB6A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17C0-BCC8-4611-8D27-143C2C99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A59D9-0A0A-4C50-B6C3-9340725E4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B872-3719-4ED8-8461-4908F08BD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04F70-16AE-457B-B29B-2C1D10F3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228D7-81C6-4803-8D32-0B1DC132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8CB74-B892-48C4-8577-F9A5580E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241D8-2A51-4876-8576-05A839ED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99C44-4E21-463C-9D4C-EA23B052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F10-0FD2-4FCC-859E-FAEFB1BF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55A6-08CB-4301-86DD-CD074CEB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55D96-88A3-454A-A90B-A022237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8E5C0-F752-4FD7-BF9E-AE6F2724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5EABB-902E-4795-BFB7-FDC57485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C122-30FB-4AE7-ACAB-D10A3426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C6848-DDBE-4C40-9ACB-9FD83E135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4521A-2880-470C-8D86-2C601EA1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1EA3A-8A31-4825-8AEC-DEBE9F964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6BC57-211F-4E1A-947E-518167EC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D4914-45F1-4E1E-AB34-0A0F56EF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060B-44D7-4C93-AFD2-32D6F933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A8570-0666-4A6E-B0C1-60EEC7736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7519E-BFF2-4770-8F92-BA771036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43D00-824D-4FA0-9EBE-9214CB73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EFB21-B78D-47D7-AFD8-878B24F0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8C7DE-4281-4FDA-AF0B-0D6314F5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255AB-D9D2-4A58-9609-533D1777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DEFCD-AA8A-49A7-91FF-3C14C581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EB5C2-0286-4CDD-B535-A335A8A2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DE61E-D295-4928-888C-18453DD5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731FF-749C-4C65-A3F5-68C7D3A6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CF24-AFC0-4C2F-A990-1ED04BDF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345A8-34D9-4A14-9F5B-CE43F9BD0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7DA6F-683C-4946-8732-77778C0D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6CA77-BB9A-4774-ACB1-069C6DC8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A9892-50CD-4824-9311-00512343B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170EF-7401-4398-BCFA-E41B6278D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45180-DCB4-4356-8D58-57D57214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E74F8-DEFA-4155-8120-FC7744E2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5FD77-7BB5-48A9-A5A4-C0C57F2B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BD1B5-25EB-4C70-8B9C-67925B48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BF4C3-065A-46ED-8282-46B3F86B0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741-D7AA-4631-831D-ADF46DF1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D7707-4D00-40B9-8B5F-AD17E8B7F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36927-92AD-4C78-88D1-40C5D1E1D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5880B-1E4D-4742-AC5B-D1581E28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02444-0A95-46A8-91EE-6D113602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4C439-576B-4F16-834D-23BDC21E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5B4804-AC8F-4FB3-9984-CA467619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7DBEB-BCC4-4F63-ADDB-1F9E747B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C8C8CF-323D-44F5-8F35-A1ADEE5D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98C9D-5597-4E6A-BA51-0D3348AF8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F478E-6A22-4E9A-B9E1-D10C2BB8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7DC0-2F78-4B52-8E93-A460D0F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EC395-3E5C-47E9-97E9-10FE7D04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38610-C593-4509-B303-EA4F70BE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4EB96-FD42-4078-9985-417AFE119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DB22-55D1-44AA-B460-1B8131A0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F4BD-2235-42D6-9684-F1821FE0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FC8E-E45A-479F-9BEB-5681879267A5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E77F-DA01-485B-8537-AD61B70DB532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954C-AEA7-4977-A1BD-EEC6149DE96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A338-6AE3-42B1-B929-43A1E9F9B85B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8343-91EB-4C51-9C47-76FCE412881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10A2-D7F6-49A9-8988-8BAA5A8BB83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85F4-DF3B-4D69-BD98-CF39EFB5722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2AB8-B07E-4315-9101-5821108C0DE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F6EF-34E3-4F5A-B561-B74D3ABBD26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00A7-F857-4752-BAA1-19072B9392F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5CA8-1365-4EF7-86B0-E3070DE1537C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14A4-A3BA-4156-B425-9C796DFEDAA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000000"/>
                </a:solidFill>
                <a:latin typeface="Arial"/>
              </a:rPr>
              <a:t>Aposentados/as que exercem atividade remuner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479520" y="936720"/>
            <a:ext cx="108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muneração Média Nominal em R$ por Tipo de Desligamento e Faixa Etária na Aposentadoria* CLT - RAIS/2015 – Posição Dezembro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63600" y="6210360"/>
            <a:ext cx="108014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Gráfico 6"/>
          <p:cNvGraphicFramePr/>
          <p:nvPr/>
        </p:nvGraphicFramePr>
        <p:xfrm>
          <a:off x="573120" y="1344600"/>
          <a:ext cx="10326600" cy="485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Gráfico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344600"/>
                    <a:ext cx="1032660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765000"/>
            <a:ext cx="1080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Secretaria de Previd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Subsecretaria de Regime Geral de Previdência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Coordenação-Geral de Estudos Previdenci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 </a:t>
            </a: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(61) 2021-5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34800" y="684360"/>
            <a:ext cx="10730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 por Aposentadoria* e UF –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34800" y="6235560"/>
            <a:ext cx="1044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71520" y="1268280"/>
          <a:ext cx="6408720" cy="4969080"/>
        </p:xfrm>
        <a:graphic>
          <a:graphicData uri="http://schemas.openxmlformats.org/drawingml/2006/table">
            <a:tbl>
              <a:tblPr/>
              <a:tblGrid>
                <a:gridCol w="1524240"/>
                <a:gridCol w="1331640"/>
                <a:gridCol w="1330560"/>
                <a:gridCol w="1260360"/>
                <a:gridCol w="961920"/>
              </a:tblGrid>
              <a:tr h="254160"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 de Vínculos Ativos por Aposentadoria* CLT - RAIS 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4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o Deslig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Tempo de Contribuiçã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por Ida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Especi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ô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o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rai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p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nh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u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ar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Nor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71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b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ambu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go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i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12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as Gera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írito Sa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au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a Catar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S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 do S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á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to Feder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1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8183520" y="1349280"/>
          <a:ext cx="1928880" cy="4876920"/>
        </p:xfrm>
        <a:graphic>
          <a:graphicData uri="http://schemas.openxmlformats.org/drawingml/2006/table">
            <a:tbl>
              <a:tblPr/>
              <a:tblGrid>
                <a:gridCol w="1436760"/>
                <a:gridCol w="492120"/>
              </a:tblGrid>
              <a:tr h="247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ra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p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ô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nh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go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N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u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i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a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to Fed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írito Sa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ambu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a Catar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as Ger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07880" y="765000"/>
            <a:ext cx="10850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de Vínculos Ativos por Aposentadoria* -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000080" y="6288120"/>
            <a:ext cx="1022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Gráfico 4"/>
          <p:cNvGraphicFramePr/>
          <p:nvPr/>
        </p:nvGraphicFramePr>
        <p:xfrm>
          <a:off x="1652760" y="1219320"/>
          <a:ext cx="7788240" cy="50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219320"/>
                    <a:ext cx="778824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por Setor de Atividade e Faixa Etária -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95160" y="1773360"/>
          <a:ext cx="10887120" cy="3070080"/>
        </p:xfrm>
        <a:graphic>
          <a:graphicData uri="http://schemas.openxmlformats.org/drawingml/2006/table">
            <a:tbl>
              <a:tblPr/>
              <a:tblGrid>
                <a:gridCol w="1400400"/>
                <a:gridCol w="1222200"/>
                <a:gridCol w="1222560"/>
                <a:gridCol w="1157040"/>
                <a:gridCol w="882720"/>
                <a:gridCol w="917640"/>
                <a:gridCol w="1025640"/>
                <a:gridCol w="1528560"/>
                <a:gridCol w="1530360"/>
              </a:tblGrid>
              <a:tr h="341280">
                <a:tc gridSpan="9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 de Vínculos Ativos por Aposentadoria* e Setor Atividade CLT - RAIS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88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xa Etá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8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GE Se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tiva mi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ústria de transform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 industriais de utilidade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ção Civ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ér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ção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pecuária, extração vegetal, caça e pes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39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 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a 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6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e 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5" name="CaixaDeTexto 2"/>
          <p:cNvSpPr/>
          <p:nvPr/>
        </p:nvSpPr>
        <p:spPr>
          <a:xfrm>
            <a:off x="450720" y="5877000"/>
            <a:ext cx="989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 Foi estabelecido um intervalo maior de faixa etária devido a erros de preenchimento na RAIS, o que explica a existência de aposentadoria em idades muito preco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0720" y="6143760"/>
            <a:ext cx="1044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587520" y="932040"/>
            <a:ext cx="108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 de Vínculos Ativos* por Setor de Atividade -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479520" y="6202440"/>
            <a:ext cx="1080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Gráfico 7"/>
          <p:cNvGraphicFramePr/>
          <p:nvPr/>
        </p:nvGraphicFramePr>
        <p:xfrm>
          <a:off x="2228760" y="1511280"/>
          <a:ext cx="751860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Grá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511280"/>
                    <a:ext cx="75186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23880" y="836640"/>
            <a:ext cx="105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 por Faixa de Remuneração (Salário Mínimo) e Sexo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15880" y="6211800"/>
            <a:ext cx="1116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23880" y="1989000"/>
          <a:ext cx="10585440" cy="2052720"/>
        </p:xfrm>
        <a:graphic>
          <a:graphicData uri="http://schemas.openxmlformats.org/drawingml/2006/table">
            <a:tbl>
              <a:tblPr/>
              <a:tblGrid>
                <a:gridCol w="1012680"/>
                <a:gridCol w="681120"/>
                <a:gridCol w="722520"/>
                <a:gridCol w="725400"/>
                <a:gridCol w="668160"/>
                <a:gridCol w="736560"/>
                <a:gridCol w="736920"/>
                <a:gridCol w="722160"/>
                <a:gridCol w="654120"/>
                <a:gridCol w="654120"/>
                <a:gridCol w="653760"/>
                <a:gridCol w="654120"/>
                <a:gridCol w="655560"/>
                <a:gridCol w="654120"/>
                <a:gridCol w="654120"/>
              </a:tblGrid>
              <a:tr h="3970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1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xa de Remuner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0.5 a 1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 a 1.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.5 a 2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 a 3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 a 4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 a 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 a 7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 a 1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 a 1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5 a 2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ñ class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97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de Vínculos  Ativos* por Faixa de Remuneração (Salário Mín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34800" y="6350040"/>
            <a:ext cx="1039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Gráfico 4"/>
          <p:cNvGraphicFramePr/>
          <p:nvPr/>
        </p:nvGraphicFramePr>
        <p:xfrm>
          <a:off x="233280" y="1506600"/>
          <a:ext cx="105444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506600"/>
                    <a:ext cx="105444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44520" y="606600"/>
            <a:ext cx="11053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por Faixa de Remuneração (Salário Mínimo) e Sexo CLT - RAIS 2015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34800" y="6334200"/>
            <a:ext cx="1130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Gráfico 5"/>
          <p:cNvGraphicFramePr/>
          <p:nvPr/>
        </p:nvGraphicFramePr>
        <p:xfrm>
          <a:off x="896760" y="1300320"/>
          <a:ext cx="10182240" cy="51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Grá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300320"/>
                    <a:ext cx="1018224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987480" y="765000"/>
            <a:ext cx="1007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muneração Média Nominal em R$ por Tipo de Desligamento e Faixa Etária na Aposentadoria* CLT - RAIS/2015 - Posição Dezembro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ângulo 2"/>
          <p:cNvSpPr/>
          <p:nvPr/>
        </p:nvSpPr>
        <p:spPr>
          <a:xfrm>
            <a:off x="987480" y="6093000"/>
            <a:ext cx="10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127160" y="1773360"/>
          <a:ext cx="9793080" cy="3887640"/>
        </p:xfrm>
        <a:graphic>
          <a:graphicData uri="http://schemas.openxmlformats.org/drawingml/2006/table">
            <a:tbl>
              <a:tblPr/>
              <a:tblGrid>
                <a:gridCol w="1461960"/>
                <a:gridCol w="2210040"/>
                <a:gridCol w="1800000"/>
                <a:gridCol w="2521080"/>
                <a:gridCol w="1800000"/>
              </a:tblGrid>
              <a:tr h="8920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ção Média Nominal em R$ por Tipo  de Desligamento e Faixa Etária na Aposentadoria* CLT - RAIS/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Tempo de Contribui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por 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Espe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9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6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06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68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1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07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70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4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a 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81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9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7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e 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22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2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62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53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3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3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9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2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8-04T17:02:49Z</dcterms:modified>
  <cp:revision>455</cp:revision>
  <dc:subject/>
  <dc:title>Demografia</dc:title>
</cp:coreProperties>
</file>